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3D3-D1CD-45D9-B406-A9E52C62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2B5-267C-47A3-962A-488ED0AB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938-6E86-445C-8D60-3E68DA5B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331-5C6E-4D92-ACA9-451D4522D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836-E6D2-4D92-B5D2-1F1036FF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85ED-5644-4829-86EC-0701098B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5335-9694-4551-8733-48EE22EF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E45-E21F-4EC8-9B9A-D35A1FF8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393-5CBA-4278-8A69-73A22B58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17D-6063-4EDB-B8DB-6EC7C86E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B65-4F63-4FC9-96B5-0F6A21E5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B016-57D8-4AD0-8875-AC7E529F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7E16-265E-4424-9AA8-CC49788C33B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989000"/>
            <a:ext cx="6121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3860280"/>
            <a:ext cx="53611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Screen Shot 2013-03-05 at 7.56.50 PM.png"/>
          <p:cNvPicPr/>
          <p:nvPr/>
        </p:nvPicPr>
        <p:blipFill>
          <a:blip r:embed="rId2"/>
          <a:stretch/>
        </p:blipFill>
        <p:spPr>
          <a:xfrm>
            <a:off x="0" y="3213000"/>
            <a:ext cx="5580000" cy="158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Screen Shot 2013-03-05 at 8.21.13 PM.png"/>
          <p:cNvPicPr/>
          <p:nvPr/>
        </p:nvPicPr>
        <p:blipFill>
          <a:blip r:embed="rId3"/>
          <a:stretch/>
        </p:blipFill>
        <p:spPr>
          <a:xfrm>
            <a:off x="755640" y="5084640"/>
            <a:ext cx="4356000" cy="105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respect2.jpg"/>
          <p:cNvPicPr/>
          <p:nvPr/>
        </p:nvPicPr>
        <p:blipFill>
          <a:blip r:embed="rId4"/>
          <a:stretch/>
        </p:blipFill>
        <p:spPr>
          <a:xfrm>
            <a:off x="19080" y="189000"/>
            <a:ext cx="2176560" cy="2865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respect2.jpg"/>
          <p:cNvPicPr/>
          <p:nvPr/>
        </p:nvPicPr>
        <p:blipFill>
          <a:blip r:embed="rId5"/>
          <a:stretch/>
        </p:blipFill>
        <p:spPr>
          <a:xfrm>
            <a:off x="2395440" y="189000"/>
            <a:ext cx="21765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KEEP MY HANDS AND FEET TO MY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920" y="3429000"/>
            <a:ext cx="86421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ALK RESPECTFULL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2521080" cy="2220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6516720" y="112536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395280" y="429264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2556000" y="4365720"/>
            <a:ext cx="1579320" cy="2154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5"/>
          <a:stretch/>
        </p:blipFill>
        <p:spPr>
          <a:xfrm>
            <a:off x="4427640" y="4336920"/>
            <a:ext cx="252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569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6600" spc="-1" strike="noStrike">
                <a:solidFill>
                  <a:srgbClr val="000000"/>
                </a:solidFill>
                <a:latin typeface="Arial"/>
              </a:rPr>
              <a:t>USE KIND WORDS</a:t>
            </a:r>
            <a:br>
              <a:rPr sz="6600"/>
            </a:br>
            <a:r>
              <a:rPr b="1" lang="es-UY" sz="5400" spc="-1" strike="noStrike">
                <a:solidFill>
                  <a:srgbClr val="000000"/>
                </a:solidFill>
                <a:latin typeface="Arial"/>
              </a:rPr>
              <a:t>USE PEOPLE’S NA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560" y="2781000"/>
            <a:ext cx="8713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6600" spc="-1" strike="noStrike">
                <a:solidFill>
                  <a:srgbClr val="000000"/>
                </a:solidFill>
                <a:latin typeface="Arial"/>
              </a:rPr>
              <a:t>NO BAD LANGUAG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/>
          <p:cNvPicPr/>
          <p:nvPr/>
        </p:nvPicPr>
        <p:blipFill>
          <a:blip r:embed="rId1"/>
          <a:stretch/>
        </p:blipFill>
        <p:spPr>
          <a:xfrm>
            <a:off x="6875640" y="1700280"/>
            <a:ext cx="1944360" cy="117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324000" y="3860640"/>
            <a:ext cx="2376360" cy="2740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4"/>
          <a:stretch/>
        </p:blipFill>
        <p:spPr>
          <a:xfrm>
            <a:off x="4716360" y="1754280"/>
            <a:ext cx="1943280" cy="1170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5"/>
          <a:stretch/>
        </p:blipFill>
        <p:spPr>
          <a:xfrm>
            <a:off x="2556000" y="1806480"/>
            <a:ext cx="1944720" cy="1171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6"/>
          <a:stretch/>
        </p:blipFill>
        <p:spPr>
          <a:xfrm>
            <a:off x="395280" y="1859040"/>
            <a:ext cx="19447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Glasshouse Country Christian College</cp:lastModifiedBy>
  <dcterms:modified xsi:type="dcterms:W3CDTF">2013-03-24T11:59:44Z</dcterms:modified>
  <cp:revision>58</cp:revision>
  <dc:subject/>
  <dc:title>Texto</dc:title>
</cp:coreProperties>
</file>